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4BCF-6995-4572-823E-F2D7F5782D66}" type="datetime2"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DF7B-A687-402C-858A-786EFA1D0D16}" type="slidenum"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additional Factory classes to create the concrete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and WSDL/SOAP type systems are very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Net type system is much closer to WSDL/SOAP typ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additional Factory classes to create the concrete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additional Factory classes to create the concrete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of the session is focussed on working with Apache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X-RPC is covered as part of discussion on Apache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609-8090-4D26-917C-D1297581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3680" y="412380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A17-6FE9-44DB-B573-D70D71F4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478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115-6CFE-430B-B8DE-1EBDC831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368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104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3840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F38-9B65-434D-86D2-D10D5BA2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EC6-559A-4341-A5E9-37A896EE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8F9-8DD2-49C3-865A-1E83D720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BEEB-4652-4CE0-B616-3C19F10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921-1843-468F-9345-D7A72B6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3B09-67E7-409D-A287-29EA4DD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78084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3EFE-2D8D-4C2A-A677-DE8146B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920-CFB7-4D74-8D8F-15EEA87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BEA-572E-4F70-813F-5395976B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478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941-E14D-40A9-888B-50FC216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620F-1876-4FA2-87D7-8595E64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23680" y="412380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0D8-A871-4920-9F85-36F53B0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478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3055-C686-42B3-875D-2404326E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2368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104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38400" y="4123800"/>
            <a:ext cx="23400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6D74-DB50-47C7-A114-892664B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A38-A36D-42DC-A161-A121685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951-B35C-40C4-8CE6-19B4BBE3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814-59C4-453A-A96E-A9ED9970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78084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5D8-CB56-4E04-A3AA-40229E84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B3A-C448-40AA-88D5-183F8DD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47880" y="412380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803-525C-4019-A17F-805033C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3680" y="4123800"/>
            <a:ext cx="7267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096-AD61-4959-97E0-02CD36F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61718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D3F2ECEB-077E-452F-97B0-6AC5B6C5A0B1}" type="datetime2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Wednesday, 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32320"/>
            <a:ext cx="2438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2040" y="640044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D7D1A1A9-77F4-4AC7-A93F-443F3A5EAF19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40384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162920" y="61718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CEEE1DC-0B67-4D7B-BDB8-B0DCAEDE8E3F}" type="datetime2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Wednesday, 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571640" y="6232320"/>
            <a:ext cx="2438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412040" y="640044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477A91F-55AF-4354-B5BA-C6330470E474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409680" indent="0"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781200" algn="ctr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100160" algn="ctr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420920" algn="ctr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42092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42092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ankaj_kumar@hp.com" TargetMode="External"/><Relationship Id="rId2" Type="http://schemas.openxmlformats.org/officeDocument/2006/relationships/hyperlink" Target="mailto:pankaj_kumar@hp.com" TargetMode="External"/><Relationship Id="rId3" Type="http://schemas.openxmlformats.org/officeDocument/2006/relationships/hyperlink" Target="mailto:pankaj_kumar@hp.com" TargetMode="External"/><Relationship Id="rId4" Type="http://schemas.openxmlformats.org/officeDocument/2006/relationships/hyperlink" Target="mailto:pankaj_kumar@hp.com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xml.apache.org/axis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calhost:8080/axi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calhost:8080/axis/AddFunction.jws?wsdl" TargetMode="External"/><Relationship Id="rId2" Type="http://schemas.openxmlformats.org/officeDocument/2006/relationships/hyperlink" Target="http://www.pankaj-k.net/" TargetMode="Externa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b4j.sf.net/" TargetMode="External"/><Relationship Id="rId2" Type="http://schemas.openxmlformats.org/officeDocument/2006/relationships/hyperlink" Target="http://xpb4j.sf.net/" TargetMode="External"/><Relationship Id="rId3" Type="http://schemas.openxmlformats.org/officeDocument/2006/relationships/hyperlink" Target="http://xpb4j.sf.net/" TargetMode="External"/><Relationship Id="rId4" Type="http://schemas.openxmlformats.org/officeDocument/2006/relationships/hyperlink" Target="http://www.pankaj-k.net/" TargetMode="External"/><Relationship Id="rId5" Type="http://schemas.openxmlformats.org/officeDocument/2006/relationships/hyperlink" Target="http://www.pankaj-k.net/" TargetMode="External"/><Relationship Id="rId6" Type="http://schemas.openxmlformats.org/officeDocument/2006/relationships/hyperlink" Target="http://www.pankaj-k.net/" TargetMode="Externa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localhost:8080/axis/services/AddFunction1Service?wsdl" TargetMode="Externa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xml.apache.org/axis" TargetMode="External"/><Relationship Id="rId2" Type="http://schemas.openxmlformats.org/officeDocument/2006/relationships/hyperlink" Target="http://java.sun.com/webservices/webservicespack.html" TargetMode="External"/><Relationship Id="rId3" Type="http://schemas.openxmlformats.org/officeDocument/2006/relationships/hyperlink" Target="http://www.w3.org/2002/ws/" TargetMode="External"/><Relationship Id="rId4" Type="http://schemas.openxmlformats.org/officeDocument/2006/relationships/hyperlink" Target="http://www.pankaj-k.net/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TCCenturyBookT"/>
              </a:rPr>
              <a:t>Web Service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TCCenturyBookT"/>
              </a:rPr>
              <a:t>JAX-RPC and Apache Axis</a:t>
            </a:r>
            <a:endParaRPr b="0" lang="en-US" sz="4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43434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Pankaj Kumar (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1"/>
              </a:rPr>
              <a:t>pankaj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2"/>
              </a:rPr>
              <a:t>_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3"/>
              </a:rPr>
              <a:t>kumar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4"/>
              </a:rPr>
              <a:t>@hp.com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Software Architect,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Web Services Management Organization,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Hewlett Packard Co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9" name=""/>
          <p:cNvSpPr/>
          <p:nvPr/>
        </p:nvSpPr>
        <p:spPr>
          <a:xfrm>
            <a:off x="911880" y="320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Sep. 18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The Web Services Wa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391520" cy="152424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CenturyBookT"/>
              </a:rPr>
              <a:t>Web Services standards (SOAP, WSDL, … )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:  based on widely accepted Internet friendly technologies (HTTP/HTTPS, XML, …), are mostly orthogonal to each other and enjoy broad support from vendor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114800"/>
            <a:ext cx="7391520" cy="152388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7800" indent="-307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CenturyBookT"/>
              </a:rPr>
              <a:t>Web Services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:  Network accessible programs, expose functionality by receiving/sending SOAP messages over HTTP/HTTPS, and describe this interface as WSDL descri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1FA20-AC65-42BA-956E-C5D11965345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itional Web Services Infrastructure Component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Management (Security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KM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b Services Manag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MI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n Management Interf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952880"/>
            <a:ext cx="5322960" cy="1173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Interesting thing to note is that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are Web Services in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5CFB8-0E3C-42BE-9371-355FA934FAB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SOAP In On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4040" y="1447920"/>
            <a:ext cx="355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6200" indent="-286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based protocol for exchange of informatio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19920" indent="-227160"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Encoding rules for datatype instances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lvl="1" marL="619920" indent="-227160"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Convention for representing RPC invocations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loosely-coupled distributed computing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19920" indent="-22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remote references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with XML Schema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 independen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OAP with Attach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rbitra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ta to be packaged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981080"/>
            <a:ext cx="2590920" cy="3733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057400"/>
            <a:ext cx="2133720" cy="1447920"/>
          </a:xfrm>
          <a:prstGeom prst="rect">
            <a:avLst/>
          </a:prstGeom>
          <a:solidFill>
            <a:srgbClr val="cc99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2133720" cy="198108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2133720"/>
            <a:ext cx="1752840" cy="304560"/>
          </a:xfrm>
          <a:prstGeom prst="rect">
            <a:avLst/>
          </a:prstGeom>
          <a:solidFill>
            <a:srgbClr val="253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514600"/>
            <a:ext cx="1752840" cy="304920"/>
          </a:xfrm>
          <a:prstGeom prst="rect">
            <a:avLst/>
          </a:prstGeom>
          <a:solidFill>
            <a:srgbClr val="253f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048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181480"/>
            <a:ext cx="1904760" cy="3812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619760" y="19810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162560" y="236232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62560" y="266652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3915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391520" y="42667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238880" y="5410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5120" y="1306440"/>
            <a:ext cx="19954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SOAP1.1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00840" y="1905120"/>
            <a:ext cx="80856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vel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95160" y="2570040"/>
            <a:ext cx="6498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34400" y="3505320"/>
            <a:ext cx="7963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He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63560" y="4267080"/>
            <a:ext cx="736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58440" y="5181480"/>
            <a:ext cx="7963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54E06-DCE1-4370-BF0C-4777B219F1E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WSDL in On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4040" y="1905120"/>
            <a:ext cx="355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WSDL document describe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service can do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t resides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invoke it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DL are like IDL but lot more flexible and extensibl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binding for SOAP1.1, HTTP GET/POST and MIM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DL descriptions can be made available from an UDDI registr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952880" y="2209320"/>
            <a:ext cx="2819160" cy="3505320"/>
            <a:chOff x="4952880" y="2209320"/>
            <a:chExt cx="2819160" cy="3505320"/>
          </a:xfrm>
        </p:grpSpPr>
        <p:sp>
          <p:nvSpPr>
            <p:cNvPr id="148" name=""/>
            <p:cNvSpPr/>
            <p:nvPr/>
          </p:nvSpPr>
          <p:spPr>
            <a:xfrm>
              <a:off x="4952880" y="2209680"/>
              <a:ext cx="2590920" cy="3504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1480" y="2285640"/>
              <a:ext cx="2133720" cy="45720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1480" y="2895480"/>
              <a:ext cx="2133720" cy="533160"/>
            </a:xfrm>
            <a:prstGeom prst="rect">
              <a:avLst/>
            </a:prstGeom>
            <a:solidFill>
              <a:srgbClr val="40ff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7543440" y="220932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86240" y="259020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7162560" y="320004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3581280"/>
              <a:ext cx="2133720" cy="53316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81480" y="4267080"/>
              <a:ext cx="2133720" cy="533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1480" y="4952880"/>
              <a:ext cx="2133720" cy="533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086240" y="3885840"/>
              <a:ext cx="6094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4495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086240" y="5105160"/>
              <a:ext cx="6094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133960" y="1397160"/>
            <a:ext cx="2222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WSDL1.1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3680" y="2057400"/>
            <a:ext cx="92736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7600" y="2743200"/>
            <a:ext cx="63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Typ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3440" y="3200400"/>
            <a:ext cx="10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Messages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44320" y="388620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Port Types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0200" y="434340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Bindings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23160" y="495288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{Services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81D3A-0854-4D09-A465-9E733292884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Java APIs for Web Servic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messages as Java objec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AJ ( SOAP with Attachments API for Java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Mod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X-RPC ( JSR101), JSR109, EJB2.1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WSDL description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WSDL (JSR110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Web Services Registri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XR (Java API for XML Registries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25A42-4E07-4892-89CB-D8CF60773C0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SAAJ Object Model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520" y="1600200"/>
            <a:ext cx="8502840" cy="4572000"/>
            <a:chOff x="380520" y="1600200"/>
            <a:chExt cx="8502840" cy="4572000"/>
          </a:xfrm>
        </p:grpSpPr>
        <p:sp>
          <p:nvSpPr>
            <p:cNvPr id="171" name=""/>
            <p:cNvSpPr/>
            <p:nvPr/>
          </p:nvSpPr>
          <p:spPr>
            <a:xfrm>
              <a:off x="3276720" y="1600200"/>
              <a:ext cx="1600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1600200"/>
              <a:ext cx="13716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5880" y="1600200"/>
              <a:ext cx="18288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6720" y="3276720"/>
              <a:ext cx="152388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5029200"/>
              <a:ext cx="213336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4191120"/>
              <a:ext cx="13716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2895480"/>
              <a:ext cx="13716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5029200"/>
              <a:ext cx="22860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4191120"/>
              <a:ext cx="144792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29400" y="3809880"/>
              <a:ext cx="20574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5715000"/>
              <a:ext cx="18288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1320" y="1676520"/>
              <a:ext cx="142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AP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50920" y="167652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AP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1760" y="1676520"/>
              <a:ext cx="164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ttachment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2514600"/>
              <a:ext cx="8384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7240" y="259092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04520" y="335268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75600" y="429264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Bo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6720" y="42926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6600" y="5105520"/>
              <a:ext cx="176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Body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0520" y="510552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Header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60880" y="5791320"/>
              <a:ext cx="136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Envel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2960" y="3048120"/>
              <a:ext cx="100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8000" y="3886200"/>
              <a:ext cx="178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SOAPFault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5528600">
              <a:off x="4800240" y="3352680"/>
              <a:ext cx="15264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297180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38480" y="3124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372560" y="3678120"/>
              <a:ext cx="568080" cy="615600"/>
              <a:chOff x="4372560" y="3678120"/>
              <a:chExt cx="568080" cy="615600"/>
            </a:xfrm>
          </p:grpSpPr>
          <p:sp>
            <p:nvSpPr>
              <p:cNvPr id="199" name=""/>
              <p:cNvSpPr/>
              <p:nvPr/>
            </p:nvSpPr>
            <p:spPr>
              <a:xfrm flipH="1" rot="19068600">
                <a:off x="4403520" y="3709440"/>
                <a:ext cx="1526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31320" y="3842280"/>
                <a:ext cx="409320" cy="45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2388000">
              <a:off x="3546000" y="3727080"/>
              <a:ext cx="15264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53160" y="3861360"/>
              <a:ext cx="52092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241440" y="3679560"/>
              <a:ext cx="598320" cy="1375920"/>
              <a:chOff x="3241440" y="3679560"/>
              <a:chExt cx="598320" cy="1375920"/>
            </a:xfrm>
          </p:grpSpPr>
          <p:sp>
            <p:nvSpPr>
              <p:cNvPr id="204" name=""/>
              <p:cNvSpPr/>
              <p:nvPr/>
            </p:nvSpPr>
            <p:spPr>
              <a:xfrm rot="1282200">
                <a:off x="3664800" y="370188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3241440" y="3849120"/>
                <a:ext cx="471960" cy="12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rot="20685600">
              <a:off x="4248000" y="3755520"/>
              <a:ext cx="152640" cy="1526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3040" y="3905280"/>
              <a:ext cx="282600" cy="11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373392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38862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958400">
              <a:off x="4800600" y="3504960"/>
              <a:ext cx="152280" cy="152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952880" y="3200040"/>
              <a:ext cx="198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2880" y="358128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17524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05920" y="3048120"/>
              <a:ext cx="22860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0800" y="44956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7920" y="44956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5791320"/>
              <a:ext cx="22860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19520" y="5791320"/>
              <a:ext cx="22860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76920" y="17524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8120" y="17524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040" y="4267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4400" y="42670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14400" y="58672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932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4572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932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4572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58000" y="4572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712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05520" y="58672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238880" y="4343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400800" y="4343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34520" y="3124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39080" y="3124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868644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285640" y="1828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05520" y="18288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520" y="1828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880" y="182880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880" y="6019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05000" y="502920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62800" y="502920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72840" y="403848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382600">
              <a:off x="2171520" y="400032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286000" y="2438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243828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67480" y="2438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39A72-C9CE-4386-880F-84324DAFF7C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JAX-RPC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WSDL/XML to Java Mapping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Java to WSDL/XML Mapping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OAP Message with Attach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ent API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Classes generated from WSD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ynamic Prox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II call Interfac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OAP Message Handl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Extensible Type Mapping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094C8-0996-445B-BF30-7BA6D7212B8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JAX-RPC Physical Architectur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38080" y="1981080"/>
            <a:ext cx="7391520" cy="3506760"/>
            <a:chOff x="838080" y="1981080"/>
            <a:chExt cx="7391520" cy="3506760"/>
          </a:xfrm>
        </p:grpSpPr>
        <p:sp>
          <p:nvSpPr>
            <p:cNvPr id="252" name=""/>
            <p:cNvSpPr/>
            <p:nvPr/>
          </p:nvSpPr>
          <p:spPr>
            <a:xfrm>
              <a:off x="5638680" y="2819520"/>
              <a:ext cx="2057400" cy="1676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6720" y="5234040"/>
              <a:ext cx="2514600" cy="2538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6720" y="4876920"/>
              <a:ext cx="2514600" cy="30456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2480" y="4343400"/>
              <a:ext cx="190512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2480" y="4114800"/>
              <a:ext cx="1905120" cy="228600"/>
            </a:xfrm>
            <a:prstGeom prst="rect">
              <a:avLst/>
            </a:prstGeom>
            <a:solidFill>
              <a:srgbClr val="ffe1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191120" y="2286000"/>
              <a:ext cx="609480" cy="762120"/>
              <a:chOff x="4191120" y="2286000"/>
              <a:chExt cx="609480" cy="762120"/>
            </a:xfrm>
          </p:grpSpPr>
          <p:sp>
            <p:nvSpPr>
              <p:cNvPr id="258" name=""/>
              <p:cNvSpPr/>
              <p:nvPr/>
            </p:nvSpPr>
            <p:spPr>
              <a:xfrm>
                <a:off x="4191120" y="22860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00600" y="24382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1120" y="3048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2286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48320" y="2286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2438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48320" y="22860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67080" y="25909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67080" y="26668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67080" y="2743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67080" y="2819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038480" y="5181480"/>
              <a:ext cx="99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47320" y="4876920"/>
              <a:ext cx="158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rotocol (SOA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4343400"/>
              <a:ext cx="1981440" cy="53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0080" y="4114800"/>
              <a:ext cx="1981440" cy="228600"/>
            </a:xfrm>
            <a:prstGeom prst="rect">
              <a:avLst/>
            </a:prstGeom>
            <a:solidFill>
              <a:srgbClr val="ffe1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2286000"/>
              <a:ext cx="1981080" cy="685800"/>
            </a:xfrm>
            <a:prstGeom prst="roundRect">
              <a:avLst>
                <a:gd name="adj" fmla="val 16667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65520" y="4343400"/>
              <a:ext cx="17366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rver Side JAX-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untim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3040" y="411480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JAX-RPC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6600" y="411480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JAX-RPC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00720" y="4343400"/>
              <a:ext cx="16894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ient Side JAX-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untim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600200" y="2895480"/>
              <a:ext cx="838080" cy="294480"/>
              <a:chOff x="1600200" y="2895480"/>
              <a:chExt cx="838080" cy="294480"/>
            </a:xfrm>
          </p:grpSpPr>
          <p:sp>
            <p:nvSpPr>
              <p:cNvPr id="279" name=""/>
              <p:cNvSpPr/>
              <p:nvPr/>
            </p:nvSpPr>
            <p:spPr>
              <a:xfrm>
                <a:off x="1600200" y="2895480"/>
                <a:ext cx="838080" cy="253800"/>
              </a:xfrm>
              <a:prstGeom prst="rect">
                <a:avLst/>
              </a:prstGeom>
              <a:solidFill>
                <a:srgbClr val="ffe1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33840" y="2946240"/>
                <a:ext cx="460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St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6416280" y="2514600"/>
              <a:ext cx="168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rvice End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2520" y="1981080"/>
              <a:ext cx="176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SDL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14600" y="26668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00600" y="2666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26720" y="3124080"/>
              <a:ext cx="160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SDL&lt;-&gt;Java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429000" y="266652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952880" y="266652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3124080"/>
              <a:ext cx="533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8080" y="2362320"/>
              <a:ext cx="1676520" cy="60948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02960" y="2514600"/>
              <a:ext cx="137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rvice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53080" y="297144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2800" y="35053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spa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35440" y="304812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D1A5E-C297-455B-BD2A-07589189BFC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Interoperability and JAX-RPC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19320" y="2185920"/>
            <a:ext cx="6476760" cy="3834000"/>
            <a:chOff x="1219320" y="2185920"/>
            <a:chExt cx="6476760" cy="3834000"/>
          </a:xfrm>
        </p:grpSpPr>
        <p:grpSp>
          <p:nvGrpSpPr>
            <p:cNvPr id="296" name=""/>
            <p:cNvGrpSpPr/>
            <p:nvPr/>
          </p:nvGrpSpPr>
          <p:grpSpPr>
            <a:xfrm>
              <a:off x="4267080" y="5410080"/>
              <a:ext cx="457200" cy="609840"/>
              <a:chOff x="4267080" y="5410080"/>
              <a:chExt cx="457200" cy="609840"/>
            </a:xfrm>
          </p:grpSpPr>
          <p:sp>
            <p:nvSpPr>
              <p:cNvPr id="297" name=""/>
              <p:cNvSpPr/>
              <p:nvPr/>
            </p:nvSpPr>
            <p:spPr>
              <a:xfrm>
                <a:off x="426708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24280" y="5531760"/>
                <a:ext cx="0" cy="4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267080" y="601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67080" y="54100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9800" y="5410080"/>
                <a:ext cx="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09800" y="55317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09800" y="5410080"/>
                <a:ext cx="11412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23960" y="565380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23960" y="57146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3960" y="57758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3960" y="58370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846240" y="518148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SD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19320" y="4343400"/>
              <a:ext cx="152388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9320" y="47242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2200" y="4343400"/>
              <a:ext cx="1523880" cy="3808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47242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72200" y="2286000"/>
              <a:ext cx="1523880" cy="3808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72200" y="26668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19320" y="2286000"/>
              <a:ext cx="152388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19320" y="2666880"/>
              <a:ext cx="1523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66560" y="4800600"/>
              <a:ext cx="13129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endor pr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Vendor B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3960" y="2743200"/>
              <a:ext cx="13647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AX-RPC imp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Vendor A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6800" y="4800600"/>
              <a:ext cx="146664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J2EE 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Vendor D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9800" y="2743200"/>
              <a:ext cx="13129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endor pro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Vendor C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4343400" y="2438280"/>
              <a:ext cx="457200" cy="609840"/>
              <a:chOff x="4343400" y="2438280"/>
              <a:chExt cx="45720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4343400" y="24382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00600" y="2559960"/>
                <a:ext cx="0" cy="4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4340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43400" y="24382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86120" y="2438280"/>
                <a:ext cx="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6120" y="25599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6120" y="2438280"/>
                <a:ext cx="11412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00280" y="268200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00280" y="27428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00280" y="28040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00280" y="2865240"/>
                <a:ext cx="2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008240" y="21859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SD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236232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5080" y="441972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86840" y="236232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63160" y="441972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43200" y="31240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3200400"/>
              <a:ext cx="3429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5105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75512-5A25-4208-A7D3-4B3074823A0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pache Axi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4560" indent="-30456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A SOAP Processing Engin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JAX-RPC Client System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JAX-RPC Server System ( Servlet based 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SAAJ implementatio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Flexible and extensible architectur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Tools, Examples, Documentation, …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A great place to learn about Web Services !!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Open-source, hosted by Apache Software Found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Ready for use ( RC1 released on Sep. 6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44661-59BE-4E37-8343-E039757B20F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267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in Perspectiv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about Web Services, wire-level interoperability standards and portable Java APIs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o know JAX-RPC and Apache Axis to consume and produce Web Services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9CD51-2B8E-48B9-B241-38E3B839CF2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Install &amp; Deploy Apache Axi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Make sure that you hav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J2SE SDK 1.3 or 1.4: We will use 1.4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A Servlet Container: We will use Tomcat4.0.1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ownlo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l-axis-rc1-bin.zip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from 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1"/>
              </a:rPr>
              <a:t>http://xml.apache.org/axi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Unzip it and look at the dir. tree. Note that Axis runs as a Servlet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eploy Axis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Cop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bapps\axis</a:t>
            </a: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 tree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bapps</a:t>
            </a: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 directory of Tomcat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Alternatively, modif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rver.xml</a:t>
            </a: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 of Tomcat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Run Tomcat: iss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\startup</a:t>
            </a:r>
            <a:r>
              <a:rPr b="0" lang="en-US" sz="1800" spc="-1" strike="noStrike">
                <a:solidFill>
                  <a:srgbClr val="000000"/>
                </a:solidFill>
                <a:latin typeface="ITCCenturyBookT"/>
              </a:rPr>
              <a:t> from Tomcat home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5" name=""/>
          <p:cNvSpPr/>
          <p:nvPr/>
        </p:nvSpPr>
        <p:spPr>
          <a:xfrm>
            <a:off x="6198840" y="2076480"/>
            <a:ext cx="201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TCCenturyBookT"/>
              </a:rPr>
              <a:t>Direcotry Struc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32280" y="2514600"/>
            <a:ext cx="85428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-1_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42840" y="3200400"/>
            <a:ext cx="4273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0720" y="3200400"/>
            <a:ext cx="32076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7360" y="3200400"/>
            <a:ext cx="74736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b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7920" y="3200400"/>
            <a:ext cx="74736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048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059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674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0000" y="3733920"/>
            <a:ext cx="4273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7360" y="4267080"/>
            <a:ext cx="74736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B-I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4648320"/>
            <a:ext cx="38088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23160" y="5029200"/>
            <a:ext cx="74736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8480" y="541008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200" y="5715000"/>
            <a:ext cx="21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324120" y="34290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0DB0D-49C5-446A-BFB9-457D0679280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Test the Deploym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499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Point your browser to 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Courier New"/>
                <a:hlinkClick r:id="rId1"/>
              </a:rPr>
              <a:t>http://localhost:8080/ax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391000" cy="40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E5D72-C652-4FE2-9C9E-CC95C5EB7E3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 Simple Exampl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3200400"/>
            <a:ext cx="2881080" cy="127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File: AddFunction.j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AddFunc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addInt(int a, int b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(a+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0720" y="1981080"/>
            <a:ext cx="3657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Function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: A simple Java class with method to add two integers. Notice the filename extension – i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jws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( for Java Web Servi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eploy it. Just copy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Function.jws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file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bapps/axis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dire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Examine its WSDL description. Point your browser to 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1"/>
              </a:rPr>
              <a:t>http://localhost:8080/axis/AddFunction.jws?wsdl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32640" y="4952880"/>
            <a:ext cx="4101840" cy="9745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Note: All sources with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to run are available at my web-si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78ff"/>
                </a:solidFill>
                <a:uFillTx/>
                <a:latin typeface="ITCCenturyBookT"/>
                <a:hlinkClick r:id="rId2"/>
              </a:rPr>
              <a:t>http://www.pankaj-k.net</a:t>
            </a: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780F6-2B4C-4D0A-8763-C6C5A415893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Writing the Client Program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ere are many ways to write a Client progra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Using Dynamic Invocation Interface ( DII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Using generated Stubs from Service WSDL descriptio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Using Dynamic Prox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We will look at each of thes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0" name=""/>
          <p:cNvSpPr/>
          <p:nvPr/>
        </p:nvSpPr>
        <p:spPr>
          <a:xfrm>
            <a:off x="1593720" y="4600440"/>
            <a:ext cx="5458320" cy="80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Writing the client requires more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an writing th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70AA3-94A2-4640-BD63-9E6BA81329C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FunctionClient – using DII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523880"/>
            <a:ext cx="801036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ile: lesson1\client\dii\AddFunctionClient.java, edited for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javax.xml.rpc.Ca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javax.xml.rpc.Servi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javax.xml.namespace.QNam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AddFunctionClien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ing endpoint = "http://localhost:8080/axis/AddFunction.jws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ice  service = new Servi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   call = (Call) service.createCall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.setOperationName(new QName(endpoint, "addInt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.setTargetEndpointAddress( new java.net.URL(endpoint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ret = (Integer)call.invoke(new Object[]{new Integer(5), new Integer(6)}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"addInt(5, 6) = " + re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err.println("Execution failed. Exception: " +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D9FA5-04C5-4BF0-A951-DAB4EA0EE3E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ompiling and Runn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DII Cli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372440" cy="36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93F7C-C185-4678-9562-CEAB6A0A2A1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FunctionClient –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Dynamic Prox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752480"/>
            <a:ext cx="762012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ile: lesson1\client\dproxy\AddFunctionClient.java, edited for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javax.xml.namespace.QNam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javax.xml.rpc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AddFunctionClien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ing wsdlUrl = "http://localhost:8080/axis/AddFunction.jws?wsd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ing nameSpaceUri = "http://localhost:8080/axis/AddFunction.jws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ing serviceName = "AddFunctionService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ing portName = "AddFunctio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iceFactory serviceFactory = ServiceFactory.newInstan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ice afs = serviceFactory.createService(new java.net.URL(wsdlUrl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 QName(nameSpaceUri, serviceName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FunctionServiceIntf afsIntf = (AddFunctionServiceIntf)afs.getPor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 QName(nameSpaceUri, portName), AddFunctionServiceIntf.clas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"addInt(5, 3) = " + afsIntf.addInt(5, 3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err.println("Execution failed. Exception: " +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C98EC-7B28-4039-8B24-21B04067809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ompiling and Running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Dynamic Proxy Cli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4A7DB-2777-4D14-B244-D19ECD6BB62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FunctionClient – using Generated Stub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2819520"/>
            <a:ext cx="69343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ile: lesson1\client\stub\AddFunctionClient.java, edited for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localhost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AddFunctionClien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FunctionService afs = new AddFunctionServiceLocat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Function af = afs.getAddFunction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"addInt(5, 3) = " + af.addInt(5, 3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err.println("Execution failed. Exception: " +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3840" y="1752480"/>
            <a:ext cx="5228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BookT"/>
              </a:rPr>
              <a:t>Generate the stub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org.apache.axis.wsdl.WSDL2Java 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tp://localhost:8080/axis/AddFunction.jws?ws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2775B-137E-4D54-9C27-DABD58420E4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Generating Stubs, Compiling and Running the Stub Cli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23924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BC937-6B3E-486C-BB5C-3A2A1BF3AD7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Speaker Introduct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12 years of development and project management experienc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ed on Web Services product development at HP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 Group Member of JAX-RPC and JSR109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or to Apache Axis and Cocoon projec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of open source project XPB4J (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1"/>
              </a:rPr>
              <a:t>http://xpb4j.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2"/>
              </a:rPr>
              <a:t>sf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3"/>
              </a:rPr>
              <a:t>.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 speaker at developer conferenc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ng a book on J2EE and Web Services Securit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 with HP Web Services Mgmt. Oper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Page: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5"/>
              </a:rPr>
              <a:t>pankaj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Tahoma"/>
                <a:hlinkClick r:id="rId6"/>
              </a:rPr>
              <a:t>-k.ne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FB397-78F4-48CF-BA83-ACF7E9C69FA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Deployment Descripto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JWS deployment is simple, but has limitations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You must have the source cod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Can’t specify custom type mappings, handlers etc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WSDD (Web Services Deployment Descriptors) allow more flexible deploy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Handlers in request or response path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Custom type mapping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ifferent transports – HTTP/S, TCP/IP, DIM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ifferent Dispatchers – Java Class, EJB, Servle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499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BA8FE-32F4-45D9-8872-B2E6A688EDD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ing complexitiy to the Simple Exampl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4038480"/>
            <a:ext cx="288144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File: AddFunction1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AddFunction1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omplex add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Complex a, Complex b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.add(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676520"/>
            <a:ext cx="3657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Function1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: A simple Java class with method to add tw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numbers. Complex is user defined Java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Deploy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TCCenturyBookT"/>
              </a:rPr>
              <a:t>Compi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TCCenturyBookT"/>
              </a:rPr>
              <a:t>Copy .class f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TCCenturyBookT"/>
              </a:rPr>
              <a:t>Write deployment 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TCCenturyBookT"/>
              </a:rPr>
              <a:t>Run AdminCl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ITCCenturyBook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Examine its WSDL description. Point your browser to </a:t>
            </a:r>
            <a:r>
              <a:rPr b="0" lang="en-US" sz="2000" spc="-1" strike="noStrike" u="sng">
                <a:solidFill>
                  <a:srgbClr val="ff78ff"/>
                </a:solidFill>
                <a:uFillTx/>
                <a:latin typeface="ITCCenturyBookT"/>
                <a:hlinkClick r:id="rId1"/>
              </a:rPr>
              <a:t>http://localhost:8080/axis/services/AddFunction1Service?wsdl</a:t>
            </a: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1905120"/>
            <a:ext cx="39625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File: Complex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mple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omplex()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double getR(){ …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setR(double r){ …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omplex add(Complex c){ …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3E44C-E892-4BBF-BF53-79E567CFBAF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The Deployment Descrip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1600200"/>
            <a:ext cx="7162920" cy="32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ile: lesson2\service\deploy.ws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ployment xmlns="http://xml.apache.org/axis/wsdd/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mlns:java="http://xml.apache.org/axis/wsdd/providers/java"&gt;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andler name="print" type="java:LogHandle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ervice name="AddFunction1Service" provider="java:RPC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equestFlow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andler type="print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requestFlow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arameter name="className" value="AddFunction1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arameter name="allowedMethods" value="*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eanMapping qname="myNS:Complex" xmlns:myNS="urn:BeanServic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nguageSpecificType="java:Complex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deploy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21240" y="4648320"/>
            <a:ext cx="3720960" cy="1600920"/>
          </a:xfrm>
          <a:prstGeom prst="rect">
            <a:avLst/>
          </a:prstGeom>
          <a:solidFill>
            <a:srgbClr val="ffe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No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(1) xmlns: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(2) A handler in the reques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(3) Dispatch to RPC 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TCCenturyBookT"/>
              </a:rPr>
              <a:t>(4) Bean typ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BA6F-8C7C-46DD-9EED-D8F21047A78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Deploying the Servic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543800" cy="45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A2ECA-6117-4ADA-A3AB-C0344C8C1CD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Function1Client – using Generated Stub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2743200"/>
            <a:ext cx="693432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File: lesson2\client\stub\AddFunction1Client.java, 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localhost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port BeanService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AddFunction1Clien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static void main(String [] args) throws 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a = new Complex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b = new Complex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setR(10.0); a.setI(5.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setR(3.0); b.setI(2.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Function1Service afs = new AddFunction1ServiceLocat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Function1 af = afs.getAddFunction1Servi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ret = af.addComplex(a, b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"addComplex(a + b) = (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 ret.getR() + ", " + ret.getI() + ")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2040" y="1752480"/>
            <a:ext cx="6615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BookT"/>
              </a:rPr>
              <a:t>Generate the stub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ava org.apache.axis.wsdlWSDL2Java 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tp://localhost:8080/axis/services/AddFunction1Service?ws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3962520"/>
            <a:ext cx="1447920" cy="761760"/>
          </a:xfrm>
          <a:prstGeom prst="wedgeEllipseCallout">
            <a:avLst>
              <a:gd name="adj1" fmla="val -256689"/>
              <a:gd name="adj2" fmla="val -4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95080" y="4098960"/>
            <a:ext cx="98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TCCenturyBookT"/>
              </a:rPr>
              <a:t>Gener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TCCenturyBookT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0D31D-F42B-447F-B6DA-A7271691A33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Running the Cli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48400" cy="449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ADE0D-554B-4C3C-A038-1BFC093383B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dditional (Advanced!) Featur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OAP with Attach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ustom type mappings (Pluggable Serializers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One-way invocation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Document exchang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Dispatch to EJB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HTTPS transport and mutual authentic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Username and password based authentic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B7F8E-3344-4497-8074-C30EA0465BF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Where to find more information?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Apache Axis Home: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ITCCenturyBookT"/>
                <a:hlinkClick r:id="rId1"/>
              </a:rPr>
              <a:t>http://xml.apache.org/axis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un’s Web Services Developer Pack Home: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ITCCenturyBookT"/>
                <a:hlinkClick r:id="rId2"/>
              </a:rPr>
              <a:t>http://java.sun.com/webservices/webservicespack.html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W3C’s Web Services Activity Home Page: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ITCCenturyBookT"/>
                <a:hlinkClick r:id="rId3"/>
              </a:rPr>
              <a:t>http://www.w3.org/2002/ws/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My Home Page: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ITCCenturyBookT"/>
                <a:hlinkClick r:id="rId4"/>
              </a:rPr>
              <a:t>http://www.pankaj-k.net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96A57-E65D-4813-AEA6-B86E99EC380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122280" y="2286000"/>
            <a:ext cx="284904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TCCenturyBookT"/>
              </a:rPr>
              <a:t>Than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TCCenturyBookT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2FB5-DCDD-4E64-A467-68D04155EC6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Outline of the Sess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3680" y="1828800"/>
            <a:ext cx="726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Web Servic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Services Standard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for Web Servic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Axi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ing Apache Axi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king a servic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loying a servic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r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izers and Deserializer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to find more inform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6D6FE-6607-4D52-B57C-B46DC9FD485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Web Services Infrastructur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267680" cy="12193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TCCenturyBookT"/>
              </a:rPr>
              <a:t>Language and platform independent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 infrastructure for </a:t>
            </a:r>
            <a:r>
              <a:rPr b="0" i="1" lang="en-US" sz="2400" spc="-1" strike="noStrike">
                <a:solidFill>
                  <a:srgbClr val="000000"/>
                </a:solidFill>
                <a:latin typeface="ITCCenturyBookT"/>
              </a:rPr>
              <a:t>loosely-coupled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ITCCenturyBookT"/>
              </a:rPr>
              <a:t>inter-operable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, app2app communication </a:t>
            </a:r>
            <a:r>
              <a:rPr b="0" i="1" lang="en-US" sz="2400" spc="-1" strike="noStrike">
                <a:solidFill>
                  <a:srgbClr val="000000"/>
                </a:solidFill>
                <a:latin typeface="ITCCenturyBookT"/>
              </a:rPr>
              <a:t>over the Internet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621A-450F-4960-911F-5853700E9A0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Web Services (Contd.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905120"/>
            <a:ext cx="723924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nguage and platform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specification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sely coupl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ased, synchronous and asynchronous inte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ver the Inter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entralized control, use of established protocols, security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-op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s b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24727-6630-4243-A9D5-4A472B48E59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Early (Internet) Technologi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2676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/MIM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is still the killer app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, NNTP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/HTTPS, HTM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tocol behind Internet’s popularit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" name=""/>
          <p:cNvSpPr/>
          <p:nvPr/>
        </p:nvSpPr>
        <p:spPr>
          <a:xfrm>
            <a:off x="865080" y="4730760"/>
            <a:ext cx="6907320" cy="11739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Most of these facilitated app to human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over the Internet/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1191E-A885-459A-A52B-19E64315B29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Early (intranet) Technologi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2676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E from OSF -- RPC based, procedura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B -- object oriented, mostly synchronou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BA, COM/DCOM from Microsoft, Java RMI/EJB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M -- message oriented, synchronous as well as asynchronou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S ( Java API standard 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roprietary implementation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724280"/>
            <a:ext cx="7620120" cy="161604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Most of these facilitated app2app interaction with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rusted intranet and without much consideratio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interoperability across different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52FA-8B94-4D31-B88A-BA724066DEC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780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App2App Interaction -- the Web Services Wa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port protoc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/HTTP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ata Enco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P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Object Access Protoc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XML Schema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DL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b Services Description Langu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ice Description and 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DI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versal Description, Discovery and Integ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26400" indent="-22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-Security, XML-Signature, XML-Encryption, ..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57AF0-39AF-4C6F-A1E5-AE944BCB381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18:32:01Z</dcterms:created>
  <dc:creator>Pankaj Kumar</dc:creator>
  <dc:description>A presentation for Web Developers conference on Sep. 18, 2002.</dc:description>
  <cp:keywords>Web Services JAX-RPC Apache Axis</cp:keywords>
  <dc:language>en-US</dc:language>
  <cp:lastModifiedBy>Pankaj Kumar</cp:lastModifiedBy>
  <cp:lastPrinted>2000-09-15T00:03:13Z</cp:lastPrinted>
  <dcterms:modified xsi:type="dcterms:W3CDTF">2002-09-17T07:03:08Z</dcterms:modified>
  <cp:revision>627</cp:revision>
  <dc:subject>Developer presentation</dc:subject>
  <dc:title>Web Services with JAX-RPC and Apache Axis</dc:title>
</cp:coreProperties>
</file>